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6.pct" ContentType="image/x-pict"/>
  <Override PartName="/ppt/media/image11.jpeg" ContentType="image/jpeg"/>
  <Override PartName="/ppt/media/image3.pct" ContentType="image/x-pict"/>
  <Override PartName="/ppt/media/image10.pct" ContentType="image/x-pict"/>
  <Override PartName="/ppt/media/image22.png" ContentType="image/png"/>
  <Override PartName="/ppt/media/image5.pct" ContentType="image/x-pict"/>
  <Override PartName="/ppt/media/image4.pct" ContentType="image/x-pict"/>
  <Override PartName="/ppt/media/image23.pct" ContentType="image/x-pict"/>
  <Override PartName="/ppt/media/image21.png" ContentType="image/png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4.pct" ContentType="image/x-pict"/>
  <Override PartName="/ppt/media/image25.pct" ContentType="image/x-pict"/>
  <Override PartName="/ppt/media/image2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3BA-196A-4CE2-BD90-4E439CAB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C8D8-2DFB-4BA8-A54F-3B7498CD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57BA-94C0-4B7E-8F9F-7B3F620B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AF43-1E48-4C7D-9130-72009517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D7F3-7181-4FEC-949B-51A1A3AF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FA8B-B3FE-4240-91F6-FCB26B7A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B6C4-A033-4965-B339-DF7B60CC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5A90-C9D9-47F1-93E5-F5775B0E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13C5-709F-4E3B-AE74-9122F459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E9FF-0956-4EB8-B0FB-5600ED25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A175-D6F8-4134-B66A-B36D04F8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7FF1-99E8-4B56-B6C7-53955A03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6817-276A-4505-B843-18C7B9CA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6E45-09C4-407B-B67D-C18A160E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351D-1CD9-4B5D-8CA6-C6C9DD74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52EC-B6E9-4366-9038-C042C6FD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3534-C0AE-441B-8E83-C50C9D76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7F701-CD02-44A4-87FA-69A4D93A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9CB7F-6DDD-4A7E-9E2E-5C95E2A7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24D0F-3862-44E8-8FE0-E6290A37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663E2-CD7D-4DBC-BE34-22B31A59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A60F0-00C2-450D-ADA3-59A643CB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1615-E041-4EC2-88D0-26E58CAF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F9321-EB19-4010-BBA4-69DE10EF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776B7-3AE3-4C60-9AD7-60FBC234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4A0BA-DC20-40AE-88EF-4D6668B5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8440C-48BD-4672-A073-CF4AE2BC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2BA86-B14D-46C2-B58F-0DAB0D0F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9AE46-BC3A-4F24-A0C0-2A466A1B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194E4-4713-417C-8721-5E2EA0AB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369-D629-402B-AF6B-755503CE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38E-5131-4E2A-8EC4-27FF94AD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DAB-C2E3-457D-BA34-4B4B4425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4D17-65A9-4036-80B4-7E592986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63AC-DDBB-4877-AEB3-B0059ABB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8799-8DB3-4BAD-A735-E4BE272A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B0A2-2CF2-431A-8800-E6FF5BC2F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e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e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687C-BAC0-4A49-98CD-0F34008F5E57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4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e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e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8F6F-774C-43A4-BFFB-5BC2EB3F1FA3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pct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image" Target="../media/image7.pct"/><Relationship Id="rId5" Type="http://schemas.openxmlformats.org/officeDocument/2006/relationships/image" Target="../media/image8.pct"/><Relationship Id="rId6" Type="http://schemas.openxmlformats.org/officeDocument/2006/relationships/image" Target="../media/image9.pct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Sand"/>
              </a:rPr>
              <a:t>Mystery of the</a:t>
            </a:r>
            <a:endParaRPr b="1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Sand"/>
              </a:rPr>
              <a:t>Matching Marks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97800" y="549900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halkboard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034360" y="304920"/>
            <a:ext cx="676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We DO have a </a:t>
            </a:r>
            <a:r>
              <a:rPr b="0" lang="en-US" sz="4400" spc="-1" strike="noStrike">
                <a:solidFill>
                  <a:srgbClr val="800080"/>
                </a:solidFill>
                <a:latin typeface="Chalkboard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03560" y="1219320"/>
            <a:ext cx="66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“</a:t>
            </a: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How did this difference happen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035000" cy="58672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201760" y="3352680"/>
            <a:ext cx="590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halkboard"/>
              </a:rPr>
              <a:t>1. </a:t>
            </a: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One</a:t>
            </a:r>
            <a:r>
              <a:rPr b="0" lang="en-US" sz="3200" spc="-1" strike="noStrike">
                <a:solidFill>
                  <a:srgbClr val="996633"/>
                </a:solidFill>
                <a:latin typeface="Chalkboard"/>
              </a:rPr>
              <a:t> </a:t>
            </a: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split</a:t>
            </a:r>
            <a:r>
              <a:rPr b="0" lang="en-US" sz="3200" spc="-1" strike="noStrike">
                <a:solidFill>
                  <a:srgbClr val="996633"/>
                </a:solidFill>
                <a:latin typeface="Chalkboard"/>
              </a:rPr>
              <a:t> to make </a:t>
            </a: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two</a:t>
            </a: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,  </a:t>
            </a:r>
            <a:r>
              <a:rPr b="1" lang="en-US" sz="3200" spc="-1" strike="noStrike">
                <a:solidFill>
                  <a:srgbClr val="333399"/>
                </a:solidFill>
                <a:latin typeface="Chalkboard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25440" y="1932120"/>
            <a:ext cx="682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And, we have two </a:t>
            </a:r>
            <a:r>
              <a:rPr b="1" lang="en-US" sz="3600" spc="-1" strike="noStrike">
                <a:solidFill>
                  <a:srgbClr val="800080"/>
                </a:solidFill>
                <a:latin typeface="Chalkboard"/>
              </a:rPr>
              <a:t>hypotheses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(possible explanations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89880" y="5257800"/>
            <a:ext cx="76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Let’s try the </a:t>
            </a:r>
            <a:r>
              <a:rPr b="1" lang="en-US" sz="3600" spc="-1" strike="noStrike">
                <a:solidFill>
                  <a:srgbClr val="000000"/>
                </a:solidFill>
                <a:latin typeface="Chalkboard"/>
              </a:rPr>
              <a:t>second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 one (fusion).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 How can we </a:t>
            </a:r>
            <a:r>
              <a:rPr b="1" lang="en-US" sz="3600" spc="-1" strike="noStrike">
                <a:solidFill>
                  <a:srgbClr val="800080"/>
                </a:solidFill>
                <a:latin typeface="Chalkboard"/>
              </a:rPr>
              <a:t>TEST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 that hypothes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47040" y="4191120"/>
            <a:ext cx="675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2. </a:t>
            </a: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Two</a:t>
            </a: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fused</a:t>
            </a: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 (joined) to make </a:t>
            </a: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C8BB-1419-458C-BD01-D92A688B9E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138040" y="712800"/>
            <a:ext cx="66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We could look for </a:t>
            </a:r>
            <a:r>
              <a:rPr b="1" lang="en-US" sz="3600" spc="-1" strike="noStrike">
                <a:solidFill>
                  <a:srgbClr val="ff0000"/>
                </a:solidFill>
                <a:latin typeface="Chalkboard"/>
              </a:rPr>
              <a:t>evidence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 of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halkboard"/>
              </a:rPr>
              <a:t>fusion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 in the </a:t>
            </a:r>
            <a:r>
              <a:rPr b="1" lang="en-US" sz="3600" spc="-1" strike="noStrike">
                <a:solidFill>
                  <a:srgbClr val="ff0000"/>
                </a:solidFill>
                <a:latin typeface="Chalkboard"/>
              </a:rPr>
              <a:t>middle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 of ou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#2 chromosom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17600" y="2666880"/>
            <a:ext cx="648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halkboard"/>
              </a:rPr>
              <a:t>But, what kind of </a:t>
            </a:r>
            <a:r>
              <a:rPr b="0" lang="en-US" sz="4000" spc="-1" strike="noStrike">
                <a:solidFill>
                  <a:srgbClr val="ff0000"/>
                </a:solidFill>
                <a:latin typeface="Chalkboard"/>
              </a:rPr>
              <a:t>evidenc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Chalkboard"/>
              </a:rPr>
              <a:t> can we look f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035000" cy="58672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682280" y="4343400"/>
            <a:ext cx="720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Well, it so happens that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halkboard"/>
              </a:rPr>
              <a:t>ALL chromosomes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 have special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halkboard"/>
              </a:rPr>
              <a:t>tip ends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, called “</a:t>
            </a:r>
            <a:r>
              <a:rPr b="1" lang="en-US" sz="3600" spc="-1" strike="noStrike">
                <a:solidFill>
                  <a:srgbClr val="ff0000"/>
                </a:solidFill>
                <a:latin typeface="Chalkboard"/>
              </a:rPr>
              <a:t>telomeres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”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C3D0-385C-45B8-AB7A-30CBD3133AD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193680" cy="31701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981080" y="1522440"/>
            <a:ext cx="1606680" cy="1286280"/>
          </a:xfrm>
          <a:prstGeom prst="wedgeRoundRectCallout">
            <a:avLst>
              <a:gd name="adj1" fmla="val -97421"/>
              <a:gd name="adj2" fmla="val 368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Chalkboard"/>
              </a:rPr>
              <a:t>Hea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halkboard"/>
              </a:rPr>
              <a:t>Telom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72920" y="3176640"/>
            <a:ext cx="2063160" cy="496440"/>
          </a:xfrm>
          <a:prstGeom prst="wedgeRoundRectCallout">
            <a:avLst>
              <a:gd name="adj1" fmla="val -72259"/>
              <a:gd name="adj2" fmla="val -12543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entrom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65240" y="4114800"/>
            <a:ext cx="1745280" cy="891000"/>
          </a:xfrm>
          <a:prstGeom prst="wedgeRoundRectCallout">
            <a:avLst>
              <a:gd name="adj1" fmla="val -97120"/>
              <a:gd name="adj2" fmla="val 7592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halkboard"/>
              </a:rPr>
              <a:t>Tai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halkboard"/>
              </a:rPr>
              <a:t>Telom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1960" y="717120"/>
            <a:ext cx="7415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 Bold"/>
              </a:rPr>
              <a:t>CHROMOSOME P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95280" y="5486400"/>
            <a:ext cx="746784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tagggttagggttagggttagggttagggttagg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|||||||||||||||||||||||||||||||||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atcccaatcccaatcccaatcccaatcccaatcc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191120" y="1447920"/>
            <a:ext cx="4419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ll Chromosomes have </a:t>
            </a:r>
            <a:r>
              <a:rPr b="1" lang="en-US" sz="2800" spc="-1" strike="noStrike">
                <a:solidFill>
                  <a:srgbClr val="ff0000"/>
                </a:solidFill>
                <a:latin typeface="Chalkboard"/>
              </a:rPr>
              <a:t>telomeres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at </a:t>
            </a:r>
            <a:r>
              <a:rPr b="1" lang="en-US" sz="2800" spc="-1" strike="noStrike">
                <a:solidFill>
                  <a:srgbClr val="000000"/>
                </a:solidFill>
                <a:latin typeface="Chalkboard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halkboard"/>
              </a:rPr>
              <a:t>end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(like shoelace aglets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4495680"/>
            <a:ext cx="426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halkboard"/>
              </a:rPr>
              <a:t>Telomeres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have a special DNA sequenc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105520" y="2819520"/>
            <a:ext cx="2133360" cy="16030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 flipH="1">
            <a:off x="152280" y="274320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274320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638320" y="2743200"/>
            <a:ext cx="175284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84D6-492F-4563-BEF5-7A7E32C8BC6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3733920" y="1142640"/>
            <a:ext cx="5029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NA Sequence for </a:t>
            </a:r>
            <a:r>
              <a:rPr b="1" lang="en-US" sz="2800" spc="-1" strike="noStrike">
                <a:solidFill>
                  <a:srgbClr val="000000"/>
                </a:solidFill>
                <a:latin typeface="Chalkboard"/>
              </a:rPr>
              <a:t>Telomeres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tagggttagggttagg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||||||||||||||||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atcccaatcccaatccc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06520" y="1093680"/>
            <a:ext cx="1606680" cy="1286280"/>
          </a:xfrm>
          <a:prstGeom prst="wedgeRoundRectCallout">
            <a:avLst>
              <a:gd name="adj1" fmla="val -89222"/>
              <a:gd name="adj2" fmla="val 1804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Hea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halkboard"/>
              </a:rPr>
              <a:t>Telom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9560" y="3124080"/>
            <a:ext cx="2063160" cy="496440"/>
          </a:xfrm>
          <a:prstGeom prst="wedgeRoundRectCallout">
            <a:avLst>
              <a:gd name="adj1" fmla="val -60342"/>
              <a:gd name="adj2" fmla="val -1733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entrom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87440" y="4956120"/>
            <a:ext cx="1745280" cy="891000"/>
          </a:xfrm>
          <a:prstGeom prst="wedgeRoundRectCallout">
            <a:avLst>
              <a:gd name="adj1" fmla="val -89240"/>
              <a:gd name="adj2" fmla="val -5670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ai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halkboard"/>
              </a:rPr>
              <a:t>Telom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05320" y="2819520"/>
            <a:ext cx="5257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halkboard"/>
              </a:rPr>
              <a:t>NOT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halkboard"/>
              </a:rPr>
              <a:t>Tandem Repeats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in </a:t>
            </a:r>
            <a:r>
              <a:rPr b="0" lang="en-US" sz="2800" spc="-1" strike="noStrike">
                <a:solidFill>
                  <a:srgbClr val="ff0000"/>
                </a:solidFill>
                <a:latin typeface="Chalkboard"/>
              </a:rPr>
              <a:t>Telomeres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ttaggg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</a:rPr>
              <a:t>ttaggg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ttaggg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||||||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</a:rPr>
              <a:t>||||||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||||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aatccc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</a:rPr>
              <a:t>aatccc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aatccc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193680" cy="317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8160" y="328680"/>
            <a:ext cx="90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Did you notice the </a:t>
            </a: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repeated sequence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: ttagg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120" y="243828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-360" y="243828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19480" y="5334120"/>
            <a:ext cx="56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halkboard"/>
              </a:rPr>
              <a:t>ttaggg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” is repeat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800-1600 times in each Telom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8217-FBA4-4F17-99B2-1AC63FE68B5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131640" y="762120"/>
            <a:ext cx="537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Here’s another view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chromosome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howing the </a:t>
            </a: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telomer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untwisted, and their typica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DNA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1662120" cy="6400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586320" y="3657600"/>
            <a:ext cx="4384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It also shows that the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Chalkboard"/>
              </a:rPr>
              <a:t>upper (shorter) a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bove the centrome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is called the “</a:t>
            </a:r>
            <a:r>
              <a:rPr b="1" lang="en-US" sz="2800" spc="-1" strike="noStrike">
                <a:solidFill>
                  <a:srgbClr val="333399"/>
                </a:solidFill>
                <a:latin typeface="Chalkboard"/>
              </a:rPr>
              <a:t>p-arm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”,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halkboard"/>
              </a:rPr>
              <a:t>lower (longer) arm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alled the “</a:t>
            </a:r>
            <a:r>
              <a:rPr b="1" lang="en-US" sz="2800" spc="-1" strike="noStrike">
                <a:solidFill>
                  <a:srgbClr val="ff0000"/>
                </a:solidFill>
                <a:latin typeface="Chalkboard"/>
              </a:rPr>
              <a:t>q-arm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2057400" y="2971800"/>
            <a:ext cx="1905120" cy="1295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1828800" y="3733560"/>
            <a:ext cx="1752480" cy="1981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01DE-22FD-4301-A7A2-0BB55D4EA26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592360" y="1170000"/>
            <a:ext cx="396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Here are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en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of the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upp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telomeres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of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himp’s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short”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chromosome (left)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4640" y="638172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hort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209720" y="638172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tr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437920" y="373392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71800" y="548640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0" y="4419720"/>
            <a:ext cx="399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and its </a:t>
            </a: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“</a:t>
            </a:r>
            <a:r>
              <a:rPr b="1" lang="en-US" sz="3200" spc="-1" strike="noStrike">
                <a:solidFill>
                  <a:srgbClr val="333399"/>
                </a:solidFill>
                <a:latin typeface="Chalkboard"/>
              </a:rPr>
              <a:t>extra</a:t>
            </a: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”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chromosome (righ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880280" y="152280"/>
            <a:ext cx="52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ELOMERE DNA CLOSE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248200" cy="58168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6553080" y="609480"/>
            <a:ext cx="2248200" cy="580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B0A-DB06-4DC7-A792-208F75C4276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676520" y="838080"/>
            <a:ext cx="5638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When we turn the “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extra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hromosome upside-dow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and try to connect it to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short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” chromosome, </a:t>
            </a: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it only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FITS one way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(left)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69800" y="3898800"/>
            <a:ext cx="43153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ey do NOT fi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when one telomere i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twisted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180</a:t>
            </a:r>
            <a:r>
              <a:rPr b="0" lang="en-US" sz="3200" spc="-1" strike="noStrike" baseline="60000">
                <a:solidFill>
                  <a:srgbClr val="000000"/>
                </a:solidFill>
                <a:latin typeface="Chalkboard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(righ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1523520" y="3429000"/>
            <a:ext cx="4496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29000" y="556272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31240" y="228600"/>
            <a:ext cx="18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NOTIC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1260360" cy="62481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330120" y="345960"/>
            <a:ext cx="1204920" cy="617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E799-3399-4BC3-B0FF-A97A670DD02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52280" y="4724280"/>
            <a:ext cx="8839440" cy="17240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530280" y="228600"/>
            <a:ext cx="7871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FURTHERMORE…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When we lay the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fusion area 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on its sid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we can see more clear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how the DNA sequen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hanges at the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fusion point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5334120"/>
            <a:ext cx="1447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59160" y="2895480"/>
            <a:ext cx="570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Reading the top strand only,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se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T T A G G G C C C T A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9575-7CFA-4064-851C-8A29690751B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90520" y="228600"/>
            <a:ext cx="835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AT’S WHAT YOU WILL BE LOOKING 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When you are searching the DNA for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Fusion Point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, you will be look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at only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one strand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of DN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(since the “lower” strand is the predictab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omplement of the “upper” strand)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Look for something like th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920" y="4419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…</a:t>
            </a: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ttagggttagggttaggg</a:t>
            </a: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ccctaaccctaaccctaa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6400" y="5181480"/>
            <a:ext cx="869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ead this like lines of text in a book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Do you see where the </a:t>
            </a:r>
            <a:r>
              <a:rPr b="0" lang="en-US" sz="2800" spc="-1" strike="noStrike">
                <a:solidFill>
                  <a:srgbClr val="ff0000"/>
                </a:solidFill>
                <a:latin typeface="Chalkboard"/>
              </a:rPr>
              <a:t>multiple g’s (and no c’s)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END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nd </a:t>
            </a:r>
            <a:r>
              <a:rPr b="0" lang="en-US" sz="2800" spc="-1" strike="noStrike">
                <a:solidFill>
                  <a:srgbClr val="333399"/>
                </a:solidFill>
                <a:latin typeface="Chalkboard"/>
              </a:rPr>
              <a:t>multiple c’s (and no g’s)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 BEG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FB6B-BD56-4FE2-A754-8DC1DD5F870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52280" y="4114800"/>
            <a:ext cx="8839440" cy="13557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234440" y="533520"/>
            <a:ext cx="635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What would this point be called?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(where multiple g’s stop, and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multiple c’s beg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1560" y="2209680"/>
            <a:ext cx="807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is would be the </a:t>
            </a: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FUSION POI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Raise your hand when you see that poi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in this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actual DNA strand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bel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-25200" y="5791320"/>
            <a:ext cx="90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lkboard"/>
              </a:rPr>
              <a:t>On </a:t>
            </a:r>
            <a:r>
              <a:rPr b="1" lang="en-US" sz="3600" spc="-1" strike="noStrike">
                <a:solidFill>
                  <a:srgbClr val="333399"/>
                </a:solidFill>
                <a:latin typeface="Chalkboard"/>
              </a:rPr>
              <a:t>which line</a:t>
            </a:r>
            <a:r>
              <a:rPr b="0" lang="en-US" sz="3600" spc="-1" strike="noStrike">
                <a:solidFill>
                  <a:srgbClr val="333399"/>
                </a:solidFill>
                <a:latin typeface="Chalkboard"/>
              </a:rPr>
              <a:t> does </a:t>
            </a:r>
            <a:r>
              <a:rPr b="1" lang="en-US" sz="3600" spc="-1" strike="noStrike">
                <a:solidFill>
                  <a:srgbClr val="333399"/>
                </a:solidFill>
                <a:latin typeface="Chalkboard"/>
              </a:rPr>
              <a:t>the change</a:t>
            </a:r>
            <a:r>
              <a:rPr b="0" lang="en-US" sz="3600" spc="-1" strike="noStrike">
                <a:solidFill>
                  <a:srgbClr val="333399"/>
                </a:solidFill>
                <a:latin typeface="Chalkboard"/>
              </a:rPr>
              <a:t> happe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B49D-C2DD-4534-8452-BEBF88CBBFF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Let’s look at our two sets of chromosomes again, side-by-si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1480" y="3429000"/>
            <a:ext cx="7882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is time, Focus on their </a:t>
            </a: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DIFFERENCES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What do you see in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chimp chromosomes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(on the </a:t>
            </a: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right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at is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e </a:t>
            </a: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human chromosomes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(on the </a:t>
            </a: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left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377440" y="990720"/>
            <a:ext cx="448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Maybe this will show i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more cle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8839440" cy="133812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2441520" y="5257800"/>
            <a:ext cx="42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GOT THE PICTU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86200" y="4343400"/>
            <a:ext cx="4267080" cy="457200"/>
          </a:xfrm>
          <a:prstGeom prst="wedgeRoundRectCallout">
            <a:avLst>
              <a:gd name="adj1" fmla="val -62796"/>
              <a:gd name="adj2" fmla="val -2756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ERE’S the FUSION POIN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D347-59C7-4058-B846-2C66830E4D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318280" y="0"/>
            <a:ext cx="376056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671040" y="533520"/>
            <a:ext cx="5030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NOW…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WHERE</a:t>
            </a: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 should we </a:t>
            </a: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LOOK</a:t>
            </a: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for the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FUSION POINT</a:t>
            </a: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4320" y="2871720"/>
            <a:ext cx="48456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YES!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Right in the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MIDD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of our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chromosome #2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where the two match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himp chromosom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overlap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621280" y="16765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299440" y="44956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2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4797-D259-45B4-B9F5-E80205811ED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5338800" y="-42840"/>
            <a:ext cx="376236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91520" y="990720"/>
            <a:ext cx="577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is would be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BELOW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CENTROMERE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, in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“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q-arm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” of the chromoso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in the region known 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2q13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”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hown in </a:t>
            </a: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6320" y="4572000"/>
            <a:ext cx="515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(Can you figure out whe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e number “2q13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omes from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267080" y="3276360"/>
            <a:ext cx="342900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299440" y="44956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2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621280" y="16765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5AA1-5C5D-437F-BAE0-80C5935CA2D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5338800" y="0"/>
            <a:ext cx="376236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73680" y="990720"/>
            <a:ext cx="5542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(OPT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For “2q13”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2 = chromosome #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q = the q-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1 = region 1 of that 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3 = sub-part 3 of that reg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943600" y="3352680"/>
            <a:ext cx="13716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99440" y="44956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2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621280" y="16765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059-1D7F-40C1-ADAE-46167C33271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09120" y="3581280"/>
            <a:ext cx="78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I have gone to an </a:t>
            </a: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online DNA database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and printed out the DNA in that reg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You could do this yourself, but, to save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time, I’ve done that for you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44280" y="649440"/>
            <a:ext cx="682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So, where can we </a:t>
            </a:r>
            <a:r>
              <a:rPr b="1" lang="en-US" sz="3600" spc="-1" strike="noStrike">
                <a:solidFill>
                  <a:srgbClr val="ff0000"/>
                </a:solidFill>
                <a:latin typeface="Chalkboard"/>
              </a:rPr>
              <a:t>see</a:t>
            </a:r>
            <a:r>
              <a:rPr b="1" lang="en-US" sz="3600" spc="-1" strike="noStrike">
                <a:solidFill>
                  <a:srgbClr val="000000"/>
                </a:solidFill>
                <a:latin typeface="Chalkboard"/>
              </a:rPr>
              <a:t> the </a:t>
            </a:r>
            <a:r>
              <a:rPr b="1" lang="en-US" sz="3600" spc="-1" strike="noStrike">
                <a:solidFill>
                  <a:srgbClr val="ff0000"/>
                </a:solidFill>
                <a:latin typeface="Chalkboard"/>
              </a:rPr>
              <a:t>DN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from this region of ou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#2 chromos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to </a:t>
            </a:r>
            <a:r>
              <a:rPr b="1" lang="en-US" sz="3600" spc="-1" strike="noStrike">
                <a:solidFill>
                  <a:srgbClr val="000000"/>
                </a:solidFill>
                <a:latin typeface="Chalkboard"/>
              </a:rPr>
              <a:t>examine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39B5-FFCC-4F34-8B5C-4D920B51C9D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520920" y="304920"/>
            <a:ext cx="3884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lkboard"/>
              </a:rPr>
              <a:t>This 2q13 reg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lkboard"/>
              </a:rPr>
              <a:t>gives us </a:t>
            </a:r>
            <a:br>
              <a:rPr sz="3600"/>
            </a:br>
            <a:r>
              <a:rPr b="1" lang="en-US" sz="3200" spc="-1" strike="noStrike">
                <a:solidFill>
                  <a:srgbClr val="333399"/>
                </a:solidFill>
                <a:latin typeface="Chalkboard"/>
              </a:rPr>
              <a:t>52 pages of DN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03200" y="2133720"/>
            <a:ext cx="391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is is what a pag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looks lik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4572000" y="228600"/>
            <a:ext cx="4394160" cy="6400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204480" y="3429000"/>
            <a:ext cx="4493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On this page,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are 57 line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each line with</a:t>
            </a:r>
            <a:br>
              <a:rPr sz="3200"/>
            </a:b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60 bases (letters),</a:t>
            </a:r>
            <a:br>
              <a:rPr sz="3200"/>
            </a:b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and that gives us…</a:t>
            </a:r>
            <a:br>
              <a:rPr sz="3200"/>
            </a:b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3,420 bases per pag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BC3-D1A7-4A15-BF98-0528995C0E9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27160" y="304920"/>
            <a:ext cx="3731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If these 52 pag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were </a:t>
            </a: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attached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end-to-end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ey would stret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about 14 met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(16 yards) arou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your room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AN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00960" y="3809880"/>
            <a:ext cx="4993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If </a:t>
            </a:r>
            <a:r>
              <a:rPr b="1" lang="en-US" sz="3200" spc="-1" strike="noStrike">
                <a:solidFill>
                  <a:srgbClr val="800080"/>
                </a:solidFill>
                <a:latin typeface="Chalkboard"/>
              </a:rPr>
              <a:t>ALL the DNA</a:t>
            </a: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 from our</a:t>
            </a:r>
            <a:br>
              <a:rPr sz="3200"/>
            </a:br>
            <a:r>
              <a:rPr b="1" lang="en-US" sz="3200" spc="-1" strike="noStrike">
                <a:solidFill>
                  <a:srgbClr val="800080"/>
                </a:solidFill>
                <a:latin typeface="Chalkboard"/>
              </a:rPr>
              <a:t>ENTIRE #2 chromosome</a:t>
            </a:r>
            <a:br>
              <a:rPr sz="3200"/>
            </a:b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was printed out like this,</a:t>
            </a:r>
            <a:br>
              <a:rPr sz="3200"/>
            </a:b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it would stretch about</a:t>
            </a:r>
            <a:br>
              <a:rPr sz="3200"/>
            </a:b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16 km (10 miles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D376-A4AE-4CB4-9AE5-D48F611D961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006200" y="304920"/>
            <a:ext cx="25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By the way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86720" y="941400"/>
            <a:ext cx="818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Each number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on the left edge equals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of the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first base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(letter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on that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02640" y="4572000"/>
            <a:ext cx="6223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And, a space has been inser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after every 10th base (letter)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to make counting eas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 rot="10800000">
          <a:off x="304920" y="2742480"/>
          <a:ext cx="10287000" cy="115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304920" y="2742480"/>
                    <a:ext cx="1028700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 flipH="1">
            <a:off x="609480" y="1447920"/>
            <a:ext cx="9907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2133720" y="3885840"/>
            <a:ext cx="13716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3504960" y="3885840"/>
            <a:ext cx="759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657600" y="3885840"/>
            <a:ext cx="1143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58BB-D070-433D-9228-7DF0BCB8408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54240" y="228600"/>
            <a:ext cx="3995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You may no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hen you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earching,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he “ttaggg”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is not perfec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n occasional “c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slips in here and the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nd you will see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minor “glitch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63400" y="48769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halkboard"/>
              </a:rPr>
              <a:t>If you s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halkboard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Chalkboard"/>
              </a:rPr>
              <a:t>MUTATIONS</a:t>
            </a:r>
            <a:r>
              <a:rPr b="0" lang="en-US" sz="2800" spc="-1" strike="noStrike">
                <a:solidFill>
                  <a:srgbClr val="333399"/>
                </a:solidFill>
                <a:latin typeface="Chalkboard"/>
              </a:rPr>
              <a:t>,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halkboard"/>
              </a:rPr>
              <a:t>you would be r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E0F2-E193-451B-97F6-4289E4D7B85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14200" y="228600"/>
            <a:ext cx="426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NOW, it’s YOUR turn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You get to SEAR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those 52 pag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05920" y="2590920"/>
            <a:ext cx="443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halkboard"/>
              </a:rPr>
              <a:t>Are you ready?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65920" y="3429000"/>
            <a:ext cx="4829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Just kidding!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Actually, you will form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teams of 3-4, and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Chalkboard"/>
              </a:rPr>
              <a:t>each team</a:t>
            </a: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 gets the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Chalkboard"/>
              </a:rPr>
              <a:t>same 4 pages (</a:t>
            </a: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from the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 “2q13” reg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93DD-970C-4F6B-9B7F-9D571161A6D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28600" y="73080"/>
            <a:ext cx="6626160" cy="6784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063960" y="228600"/>
            <a:ext cx="577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How are they </a:t>
            </a:r>
            <a:r>
              <a:rPr b="0" lang="en-US" sz="4000" spc="-1" strike="noStrike">
                <a:solidFill>
                  <a:srgbClr val="ff0000"/>
                </a:solidFill>
                <a:latin typeface="Chalkboard"/>
              </a:rPr>
              <a:t>different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8760-7E9C-4B62-9A2F-0885CFD746E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223720" y="1828800"/>
            <a:ext cx="434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Each person looks for</a:t>
            </a:r>
            <a:br>
              <a:rPr sz="3200"/>
            </a:b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that “</a:t>
            </a: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Fusion Area</a:t>
            </a: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” on</a:t>
            </a:r>
            <a:br>
              <a:rPr sz="3200"/>
            </a:b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a </a:t>
            </a: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different</a:t>
            </a: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 p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82920" y="3505320"/>
            <a:ext cx="47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halkboard"/>
              </a:rPr>
              <a:t>When one of you finds</a:t>
            </a:r>
            <a:br>
              <a:rPr sz="3200"/>
            </a:br>
            <a:r>
              <a:rPr b="0" lang="en-US" sz="3200" spc="-1" strike="noStrike">
                <a:solidFill>
                  <a:srgbClr val="996633"/>
                </a:solidFill>
                <a:latin typeface="Chalkboard"/>
              </a:rPr>
              <a:t>it, </a:t>
            </a: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show your partners</a:t>
            </a:r>
            <a:r>
              <a:rPr b="0" lang="en-US" sz="3200" spc="-1" strike="noStrike">
                <a:solidFill>
                  <a:srgbClr val="996633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000" y="4979880"/>
            <a:ext cx="862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halkboard"/>
              </a:rPr>
              <a:t>Discuss your discovery</a:t>
            </a: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 with your partner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and </a:t>
            </a:r>
            <a:r>
              <a:rPr b="1" lang="en-US" sz="3200" spc="-1" strike="noStrike">
                <a:solidFill>
                  <a:srgbClr val="800080"/>
                </a:solidFill>
                <a:latin typeface="Chalkboard"/>
              </a:rPr>
              <a:t>answer the questions</a:t>
            </a: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on your “</a:t>
            </a:r>
            <a:r>
              <a:rPr b="1" lang="en-US" sz="3200" spc="-1" strike="noStrike">
                <a:solidFill>
                  <a:srgbClr val="800080"/>
                </a:solidFill>
                <a:latin typeface="Chalkboard"/>
              </a:rPr>
              <a:t>SEARCH</a:t>
            </a: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” work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3600" y="165240"/>
            <a:ext cx="424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One of those 4 page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should have the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“</a:t>
            </a:r>
            <a:r>
              <a:rPr b="1" lang="en-US" sz="3200" spc="-1" strike="noStrike">
                <a:solidFill>
                  <a:srgbClr val="333399"/>
                </a:solidFill>
                <a:latin typeface="Chalkboard"/>
              </a:rPr>
              <a:t>Fusion Area</a:t>
            </a: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0F47-EF70-4525-B6F9-66609B3904A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366640" y="228600"/>
            <a:ext cx="64396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RE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halkboard"/>
              </a:rPr>
              <a:t>PROBLEM</a:t>
            </a:r>
            <a:r>
              <a:rPr b="0" lang="en-US" sz="2400" spc="-1" strike="noStrike">
                <a:solidFill>
                  <a:srgbClr val="800080"/>
                </a:solidFill>
                <a:latin typeface="Chalkboard"/>
              </a:rPr>
              <a:t>: How did our #2 chromosome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Chalkboard"/>
              </a:rPr>
              <a:t>come to look identical to two chromosomes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Chalkboard"/>
              </a:rPr>
              <a:t>in chimpanze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886200"/>
            <a:ext cx="540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halkboard"/>
              </a:rPr>
              <a:t>TEST</a:t>
            </a:r>
            <a:r>
              <a:rPr b="0" lang="en-US" sz="2400" spc="-1" strike="noStrike">
                <a:solidFill>
                  <a:srgbClr val="009999"/>
                </a:solidFill>
                <a:latin typeface="Chalkboard"/>
              </a:rPr>
              <a:t>: Look for </a:t>
            </a:r>
            <a:r>
              <a:rPr b="1" lang="en-US" sz="2400" spc="-1" strike="noStrike">
                <a:solidFill>
                  <a:srgbClr val="009999"/>
                </a:solidFill>
                <a:latin typeface="Chalkboard"/>
              </a:rPr>
              <a:t>fusion</a:t>
            </a:r>
            <a:r>
              <a:rPr b="0" lang="en-US" sz="2400" spc="-1" strike="noStrike">
                <a:solidFill>
                  <a:srgbClr val="009999"/>
                </a:solidFill>
                <a:latin typeface="Chalkboard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Chalkboard"/>
              </a:rPr>
              <a:t>evidence</a:t>
            </a:r>
            <a:br>
              <a:rPr sz="2400"/>
            </a:br>
            <a:r>
              <a:rPr b="0" lang="en-US" sz="2400" spc="-1" strike="noStrike">
                <a:solidFill>
                  <a:srgbClr val="009999"/>
                </a:solidFill>
                <a:latin typeface="Chalkboard"/>
              </a:rPr>
              <a:t>in the form of </a:t>
            </a:r>
            <a:r>
              <a:rPr b="1" lang="en-US" sz="2400" spc="-1" strike="noStrike">
                <a:solidFill>
                  <a:srgbClr val="009999"/>
                </a:solidFill>
                <a:latin typeface="Chalkboard"/>
              </a:rPr>
              <a:t>telomere DNA</a:t>
            </a:r>
            <a:br>
              <a:rPr sz="2400"/>
            </a:br>
            <a:r>
              <a:rPr b="0" lang="en-US" sz="2400" spc="-1" strike="noStrike">
                <a:solidFill>
                  <a:srgbClr val="009999"/>
                </a:solidFill>
                <a:latin typeface="Chalkboard"/>
              </a:rPr>
              <a:t>in the </a:t>
            </a:r>
            <a:r>
              <a:rPr b="1" lang="en-US" sz="2400" spc="-1" strike="noStrike">
                <a:solidFill>
                  <a:srgbClr val="009999"/>
                </a:solidFill>
                <a:latin typeface="Chalkboard"/>
              </a:rPr>
              <a:t>middle</a:t>
            </a:r>
            <a:r>
              <a:rPr b="0" lang="en-US" sz="2400" spc="-1" strike="noStrike">
                <a:solidFill>
                  <a:srgbClr val="009999"/>
                </a:solidFill>
                <a:latin typeface="Chalkboard"/>
              </a:rPr>
              <a:t> of our #2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423160" y="5410080"/>
            <a:ext cx="636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alkboard"/>
              </a:rPr>
              <a:t>PREDICTIONS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: If hypothesis is </a:t>
            </a:r>
            <a:r>
              <a:rPr b="1" lang="en-US" sz="2400" spc="-1" strike="noStrike">
                <a:solidFill>
                  <a:srgbClr val="000000"/>
                </a:solidFill>
                <a:latin typeface="Chalkboard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, w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hould find </a:t>
            </a:r>
            <a:r>
              <a:rPr b="1" lang="en-US" sz="2400" spc="-1" strike="noStrike">
                <a:solidFill>
                  <a:srgbClr val="000000"/>
                </a:solidFill>
                <a:latin typeface="Chalkboard"/>
              </a:rPr>
              <a:t>two telomeres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there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f NOT true, should be NO telomeres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352680" y="2057400"/>
            <a:ext cx="533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halkboard"/>
              </a:rPr>
              <a:t>HYPOTHESIS</a:t>
            </a:r>
            <a:r>
              <a:rPr b="0" lang="en-US" sz="2400" spc="-1" strike="noStrike">
                <a:solidFill>
                  <a:srgbClr val="333399"/>
                </a:solidFill>
                <a:latin typeface="Chalkboard"/>
              </a:rPr>
              <a:t>: our #2 chromosome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halkboard"/>
              </a:rPr>
              <a:t> was formed by the </a:t>
            </a:r>
            <a:r>
              <a:rPr b="1" lang="en-US" sz="2400" spc="-1" strike="noStrike">
                <a:solidFill>
                  <a:srgbClr val="333399"/>
                </a:solidFill>
                <a:latin typeface="Chalkboard"/>
              </a:rPr>
              <a:t>fusion</a:t>
            </a:r>
            <a:r>
              <a:rPr b="0" lang="en-US" sz="2400" spc="-1" strike="noStrike">
                <a:solidFill>
                  <a:srgbClr val="333399"/>
                </a:solidFill>
                <a:latin typeface="Chalkboard"/>
              </a:rPr>
              <a:t> of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halkboard"/>
              </a:rPr>
              <a:t>two chromosomes</a:t>
            </a:r>
            <a:r>
              <a:rPr b="0" lang="en-US" sz="2400" spc="-1" strike="noStrike">
                <a:solidFill>
                  <a:srgbClr val="333399"/>
                </a:solidFill>
                <a:latin typeface="Chalkboard"/>
              </a:rPr>
              <a:t> in an </a:t>
            </a:r>
            <a:r>
              <a:rPr b="1" lang="en-US" sz="2400" spc="-1" strike="noStrike">
                <a:solidFill>
                  <a:srgbClr val="333399"/>
                </a:solidFill>
                <a:latin typeface="Chalkboard"/>
              </a:rPr>
              <a:t>ancestor</a:t>
            </a:r>
            <a:r>
              <a:rPr b="0" lang="en-US" sz="2400" spc="-1" strike="noStrike">
                <a:solidFill>
                  <a:srgbClr val="333399"/>
                </a:solidFill>
                <a:latin typeface="Chalkboard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halkboard"/>
              </a:rPr>
              <a:t>after</a:t>
            </a:r>
            <a:r>
              <a:rPr b="0" lang="en-US" sz="2400" spc="-1" strike="noStrike">
                <a:solidFill>
                  <a:srgbClr val="333399"/>
                </a:solidFill>
                <a:latin typeface="Chalkboard"/>
              </a:rPr>
              <a:t> chimps branched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920" y="304920"/>
            <a:ext cx="24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himp    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33520" y="838080"/>
            <a:ext cx="1523880" cy="4267080"/>
            <a:chOff x="533520" y="838080"/>
            <a:chExt cx="1523880" cy="4267080"/>
          </a:xfrm>
        </p:grpSpPr>
        <p:sp>
          <p:nvSpPr>
            <p:cNvPr id="410" name=""/>
            <p:cNvSpPr/>
            <p:nvPr/>
          </p:nvSpPr>
          <p:spPr>
            <a:xfrm>
              <a:off x="533520" y="838080"/>
              <a:ext cx="685800" cy="231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1219320" y="857160"/>
              <a:ext cx="838080" cy="229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19320" y="3155040"/>
              <a:ext cx="25200" cy="195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19320" y="3130920"/>
              <a:ext cx="0" cy="675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1346040" y="2146320"/>
              <a:ext cx="253800" cy="675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1273680" y="3060720"/>
            <a:ext cx="244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&lt;--Common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     Ance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432080" y="214632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39D4-3B1E-4E07-84AD-AA033F98E78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632880" y="380880"/>
            <a:ext cx="7960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alkboard"/>
              </a:rPr>
              <a:t>GO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halkboard"/>
              </a:rPr>
              <a:t>SEARCH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halkboard"/>
              </a:rPr>
              <a:t>for the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Chalkboard"/>
              </a:rPr>
              <a:t>Tell-Tale Telomeres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52280" y="4724280"/>
            <a:ext cx="8839440" cy="133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4BB2-F3FE-4E1A-BC82-8C977BBD708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124080" y="457200"/>
            <a:ext cx="2540160" cy="2540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452600" y="3200400"/>
            <a:ext cx="5781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tudents get into teams now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and pick up team folder wi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4 DNA pages per team,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1 worksheet per stud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25040" y="5535720"/>
            <a:ext cx="570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Go to MMM2 for followup slide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to show after teams find fusion point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or to show optional DNA models of telome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3094-7604-4220-B9D2-5A11285F3DA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GOOD EYES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- </a:t>
            </a: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Chimp’s #2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shorter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than </a:t>
            </a: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our #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Chimp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has an </a:t>
            </a: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extra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unmatched </a:t>
            </a: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7360" y="2895480"/>
            <a:ext cx="736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halkboard"/>
              </a:rPr>
              <a:t>What could have happen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halkboard"/>
              </a:rPr>
              <a:t>to cause those differenc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80440" y="4724280"/>
            <a:ext cx="665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Let’s take a closer loo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at those chromosom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495360" cy="49276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8153280" y="2133720"/>
            <a:ext cx="287280" cy="2286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500560" y="2743200"/>
            <a:ext cx="498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ANY IDEAS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might EXPLAIN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“missing” part of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himp’s #2 chromoso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AND the chimp’s “extra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hromoso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57400" y="1295280"/>
            <a:ext cx="2209680" cy="609840"/>
          </a:xfrm>
          <a:prstGeom prst="wedgeRoundRectCallout">
            <a:avLst>
              <a:gd name="adj1" fmla="val -64870"/>
              <a:gd name="adj2" fmla="val 1291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Missing”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05520" y="1295280"/>
            <a:ext cx="2743200" cy="609840"/>
          </a:xfrm>
          <a:prstGeom prst="wedgeRoundRectCallout">
            <a:avLst>
              <a:gd name="adj1" fmla="val 61749"/>
              <a:gd name="adj2" fmla="val 22135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xtra” in chi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89E-3129-461D-9373-3F5F6A171D7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495360" cy="49276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8153280" y="2133720"/>
            <a:ext cx="287280" cy="2286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797560" y="914400"/>
            <a:ext cx="4107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Maybe the chimp’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“extra” chromoso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was once part of i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hort #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85680" y="3441600"/>
            <a:ext cx="4030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Could the “extra”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chromosome match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 the </a:t>
            </a: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upper part</a:t>
            </a: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 of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our #2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828800"/>
            <a:ext cx="12952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828440" y="2819520"/>
            <a:ext cx="19810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477120" y="3429000"/>
            <a:ext cx="167616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1599840" y="2133720"/>
            <a:ext cx="1523880" cy="2666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12560" y="575460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halkboard"/>
              </a:rPr>
              <a:t>LET’S TRY I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D3B5-9AA0-4C93-903D-D100EA5C3F5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495360" cy="49276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752480" y="914400"/>
            <a:ext cx="287280" cy="2286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907000" y="304920"/>
            <a:ext cx="369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Nope!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They don’t se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to match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What else coul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we t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03000" y="3710160"/>
            <a:ext cx="510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halkboard"/>
              </a:rPr>
              <a:t>Turn the “</a:t>
            </a:r>
            <a:r>
              <a:rPr b="1" lang="en-US" sz="4000" spc="-1" strike="noStrike">
                <a:solidFill>
                  <a:srgbClr val="333399"/>
                </a:solidFill>
                <a:latin typeface="Chalkboard"/>
              </a:rPr>
              <a:t>extra</a:t>
            </a:r>
            <a:r>
              <a:rPr b="0" lang="en-US" sz="4000" spc="-1" strike="noStrike">
                <a:solidFill>
                  <a:srgbClr val="333399"/>
                </a:solidFill>
                <a:latin typeface="Chalkboard"/>
              </a:rPr>
              <a:t>” on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Chalkboard"/>
              </a:rPr>
              <a:t>upside down?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64960" y="5486400"/>
            <a:ext cx="376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halkboard"/>
              </a:rPr>
              <a:t>Let’s try it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BAA-2645-4519-81C2-01A3BD47D22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5410080" y="2057400"/>
            <a:ext cx="2362320" cy="19209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838080" y="590400"/>
            <a:ext cx="619200" cy="58676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 flipH="1">
            <a:off x="1122120" y="601560"/>
            <a:ext cx="231480" cy="28195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 flipH="1">
            <a:off x="8152920" y="1981080"/>
            <a:ext cx="212760" cy="27403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5"/>
          <a:stretch/>
        </p:blipFill>
        <p:spPr>
          <a:xfrm>
            <a:off x="3429000" y="2362320"/>
            <a:ext cx="2971800" cy="549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6"/>
          <a:stretch/>
        </p:blipFill>
        <p:spPr>
          <a:xfrm>
            <a:off x="1676520" y="1371600"/>
            <a:ext cx="227160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EB09-5812-4886-A153-90ADAD5307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756440" y="228600"/>
            <a:ext cx="726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halkboard"/>
              </a:rPr>
              <a:t>WOW !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IT WORKED! They DO MATCH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23200" y="1752480"/>
            <a:ext cx="50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NOW, the next question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“How could this happen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035000" cy="58672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828800" y="304812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halkboar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3200" spc="-1" strike="noStrike">
                <a:solidFill>
                  <a:srgbClr val="996633"/>
                </a:solidFill>
                <a:latin typeface="Chalkboard"/>
              </a:rPr>
              <a:t>Was there </a:t>
            </a: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ONE</a:t>
            </a:r>
            <a:r>
              <a:rPr b="0" lang="en-US" sz="3200" spc="-1" strike="noStrike">
                <a:solidFill>
                  <a:srgbClr val="996633"/>
                </a:solidFill>
                <a:latin typeface="Chalkboard"/>
              </a:rPr>
              <a:t> #2 in our</a:t>
            </a:r>
            <a:br>
              <a:rPr sz="3200"/>
            </a:b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common ancestor</a:t>
            </a:r>
            <a:r>
              <a:rPr b="0" lang="en-US" sz="3200" spc="-1" strike="noStrike">
                <a:solidFill>
                  <a:srgbClr val="996633"/>
                </a:solidFill>
                <a:latin typeface="Chalkboard"/>
              </a:rPr>
              <a:t>, that </a:t>
            </a: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split</a:t>
            </a:r>
            <a:br>
              <a:rPr sz="3200"/>
            </a:br>
            <a:r>
              <a:rPr b="0" lang="en-US" sz="3200" spc="-1" strike="noStrike">
                <a:solidFill>
                  <a:srgbClr val="996633"/>
                </a:solidFill>
                <a:latin typeface="Chalkboard"/>
              </a:rPr>
              <a:t>to </a:t>
            </a: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make TWO</a:t>
            </a:r>
            <a:r>
              <a:rPr b="0" lang="en-US" sz="3200" spc="-1" strike="noStrike">
                <a:solidFill>
                  <a:srgbClr val="996633"/>
                </a:solidFill>
                <a:latin typeface="Chalkboard"/>
              </a:rPr>
              <a:t> in chimps, </a:t>
            </a: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23640" y="4876920"/>
            <a:ext cx="787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9999"/>
              </a:buClr>
              <a:buFont typeface="Chalkboar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Were there </a:t>
            </a: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TWO</a:t>
            </a: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 short</a:t>
            </a:r>
            <a:br>
              <a:rPr sz="3200"/>
            </a:b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chromosomes in our </a:t>
            </a: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ancestor</a:t>
            </a: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fused</a:t>
            </a: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 (joined) to </a:t>
            </a: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make ONE </a:t>
            </a:r>
            <a:r>
              <a:rPr b="0" lang="en-US" sz="3200" spc="-1" strike="noStrike">
                <a:solidFill>
                  <a:srgbClr val="009999"/>
                </a:solidFill>
                <a:latin typeface="Chalkboard"/>
              </a:rPr>
              <a:t>in huma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3AAA-C82F-41A6-8F51-2262CA9CEBE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1:13:36Z</dcterms:created>
  <dc:creator>Larry Flammer</dc:creator>
  <dc:description/>
  <dc:language>en-US</dc:language>
  <cp:lastModifiedBy>Larry Flammer</cp:lastModifiedBy>
  <dcterms:modified xsi:type="dcterms:W3CDTF">2007-11-01T23:26:15Z</dcterms:modified>
  <cp:revision>6</cp:revision>
  <dc:subject/>
  <dc:title>Mystery of the</dc:title>
</cp:coreProperties>
</file>